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62F0-46A1-453C-9E02-0839669B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87E7-E136-48E5-8EF1-13F16D15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88BE-3A3D-400B-8C9B-97B09C2BD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2E24-F217-443B-833F-DF3D32426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0752-DFD6-4BEC-A755-5200F2C11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AC5C-30CF-4162-89C9-C10CD747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DF70-AF73-4F79-B5A0-FE40C409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2C03-C454-4155-80B4-19A200BD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2D5D-9FD0-43BD-B0AF-17A4CE33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AB35-9B55-47FA-8849-5233314E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B698-A2E6-4439-A450-F0AFCC6E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B4FA-4945-4C1B-8517-68B598EE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0A61-DB6E-48A4-92B7-016B8CE1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C702-09FA-4EBA-ACCD-CBC46190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F4A7-DFF6-4478-88BA-B8222E48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CB29-4CC9-4DE1-A2AC-7CC69F619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758D-E384-4D16-AF15-B2677BBC0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A05B5-D59B-4278-9190-E7E9E381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2E3A0-4BA5-4DA9-A0C9-CEE513D6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BEB3C-D629-47AB-A556-BBA8B551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3278E-87ED-4E1B-BCAD-3E79ABCA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A3650-BEF4-459D-8EE1-497C5FC4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507E-63CB-4B26-906F-E417C6FD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DABE0-A171-44E8-8670-1D0AB113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B3EED-F8F8-4358-850B-EA6D8381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CB807-48C6-452A-830A-BE4F2F3E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3DB3D-E2BD-4236-BF3B-4D5E3289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35936-E5FF-48BB-81B9-DA2BB7F6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D34DD-33E3-49B6-9351-38B8E2E5D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C37FE-FCF9-4E1E-B308-8ADF8AEF0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8D722-E81B-4BC7-9C88-ADDC8E305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32DA4-ACC2-4850-9771-3A1B8EBC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68281-370B-4FD6-997C-AE96461D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89FE-1F72-47B0-A423-D65CF976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E7AC2-673C-4A8D-B298-3E7F0747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D1D45-1881-411D-8AAF-492D1FDE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5832E-76EA-4040-B63D-AC36A715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A92CA-6982-4478-A7B7-CF274E68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F2F4A-2B28-4D2C-BD53-9627ECD0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E52B1-61D5-42E5-A8DB-D1CF9C8A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4C51D-84B5-43D1-B8E4-F69F9B6C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3C583-9C68-4697-B7CB-86355CC58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049E8-1A09-4715-9BA4-E64166CF7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D7CF9-9A67-477D-8CAC-12057880E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25D2-9B99-4C60-8475-179AC6B7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445EC-12E6-4029-8D8D-1CFF63A7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6DA2C-798D-49D9-BC38-5A40C13E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186D2-1236-488C-BF12-1A7C4069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71D0F-86D3-4A0D-A7C5-74C90F94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FBDF3-5CB1-46B1-B66B-E1316FFD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7F0FC-3535-443D-8AA3-6E22B709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96064-842E-4962-BB71-C7163D30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23F43-8CD0-47AD-B9BB-13DC15AC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145ED-C038-43C6-81C4-0DA23A53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1B797-1F2E-4836-832E-200DA2ED9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4F79-CCB6-455A-A75D-2ED1FC13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E8526-3A12-44F7-9AE5-889F5C0AA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F96C0-84EF-4826-8179-C5337C73B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66942-1987-48E2-A724-459E3A28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6807D-8A76-4CEB-90BA-A9F69884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187A6-ED31-4409-BBC9-2332D958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ABF77-6D83-469E-B8B1-26914300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17664-CC71-4D23-88BB-83EDB9FC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9681F-B5A9-4FB0-A2EF-ADE38E6F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130AA-838F-4AFC-B2C6-76FEB9A8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EC92A-0298-40EA-A2A6-5E1C56B3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BB56-5451-4F3E-B396-5E48CC3A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9433F-2E4C-4A43-A781-F6D54064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95D0C-00EA-4605-AC3B-AF3F1D95D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2136B-20E2-4DC9-B62D-219049CC1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212E6-7B2C-4903-BCA4-F6E705691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0E84B-E814-4089-893F-3EE8D436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F6037-0B2C-42D6-9F29-2DD9D061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A8853-9D8A-4213-86F9-F571E965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34950-061C-43DA-8137-5E6A6CA1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DEE97-7574-48EA-A12A-F79928F3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DADAE-2BD7-42C7-B3CF-7223603D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5534-C89E-4E4F-9FC8-917CC765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55182-BC6A-4757-A004-617FCFDA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A9FC7-B068-4D20-989C-C8BC2DAD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BC8EA-313D-4B40-B310-DE07C206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CFF4E-2778-4ADA-90F2-EED3E86CB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F0940-9D4E-400A-B52C-AE6AA9B07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9DC6-4C9A-4E44-B28C-6F94242A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3068-C5BC-4512-8E98-6337881C4A78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7DDB-3EB0-4403-83E6-D77BAC3B9C6D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27D8-48C7-4CE7-A1A5-58BB150B89E1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D430-33A5-4C74-88D1-CDD95649C4F9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0C3B-8389-430B-BD04-2B119A555A03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3485-93C2-4396-836A-55253BB469D8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8A6F-79CD-4CBA-8854-21DD304FF7AE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EF47-46C2-4015-B01F-D54680B8B73D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9DC5-2860-4D25-85D4-9189ABBEF2BF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73DF-A6F7-4F28-A4E4-F205044D1D0C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FD55-35D8-45A3-BAF7-CA4404730F66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8F6D-66B1-4FD7-B0E5-F3DC0B13B3B1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990E-B4DC-47D6-9DFF-9616DCAEF3F9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30E5-402E-4706-A652-04708A9FCA55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u4A_2d.swf" TargetMode="External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u4A_2d.swf" TargetMode="External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142920" y="3166920"/>
            <a:ext cx="25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Unit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3157560" y="4021200"/>
            <a:ext cx="25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R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八年级下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WordArt 4"/>
          <p:cNvSpPr txBox="1"/>
          <p:nvPr/>
        </p:nvSpPr>
        <p:spPr>
          <a:xfrm>
            <a:off x="2049480" y="3249720"/>
            <a:ext cx="6516720" cy="61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DilleniaUPC"/>
              </a:rPr>
              <a:t>Why don't you talk to your parents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DilleniaUPC"/>
              <a:ea typeface="DilleniaUPC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2719440" y="4870440"/>
            <a:ext cx="49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SectionA 1a-2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7"/>
          <p:cNvSpPr/>
          <p:nvPr/>
        </p:nvSpPr>
        <p:spPr>
          <a:xfrm>
            <a:off x="142920" y="3990960"/>
            <a:ext cx="842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AutoShape 2"/>
          <p:cNvSpPr/>
          <p:nvPr/>
        </p:nvSpPr>
        <p:spPr>
          <a:xfrm>
            <a:off x="458640" y="290520"/>
            <a:ext cx="8231400" cy="15699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2b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isten again. Why doesn't Peter like 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riend's advice? Write the letters (a-e) n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o the advice in 2a.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458640" y="2097000"/>
          <a:ext cx="8507520" cy="4525920"/>
        </p:xfrm>
        <a:graphic>
          <a:graphicData uri="http://schemas.openxmlformats.org/drawingml/2006/table">
            <a:tbl>
              <a:tblPr/>
              <a:tblGrid>
                <a:gridCol w="8507520"/>
              </a:tblGrid>
              <a:tr h="746280"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Advic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779640">
                <a:tc>
                  <a:txBody>
                    <a:bodyPr lIns="90000" rIns="90000" tIns="47160" bIns="47160" anchor="t">
                      <a:noAutofit/>
                    </a:bodyPr>
                    <a:p>
                      <a:pPr marL="495360" indent="-495360">
                        <a:lnSpc>
                          <a:spcPct val="120000"/>
                        </a:lnSpc>
                        <a:spcBef>
                          <a:spcPts val="700"/>
                        </a:spcBef>
                        <a:buClr>
                          <a:srgbClr val="4584d3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You _______ write him a letter.  (   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20000"/>
                        </a:lnSpc>
                        <a:spcBef>
                          <a:spcPts val="700"/>
                        </a:spcBef>
                        <a:buClr>
                          <a:srgbClr val="4584d3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You _______ call him up.    (   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20000"/>
                        </a:lnSpc>
                        <a:spcBef>
                          <a:spcPts val="700"/>
                        </a:spcBef>
                        <a:buClr>
                          <a:srgbClr val="4584d3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You _______ talk to him so that you can say you’re sorry.    (   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20000"/>
                        </a:lnSpc>
                        <a:spcBef>
                          <a:spcPts val="700"/>
                        </a:spcBef>
                        <a:buClr>
                          <a:srgbClr val="4584d3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You _______go to his house. (   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20000"/>
                        </a:lnSpc>
                        <a:spcBef>
                          <a:spcPts val="700"/>
                        </a:spcBef>
                        <a:buClr>
                          <a:srgbClr val="4584d3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You _______take him to the ball game. (   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384" name="Text Box 11"/>
          <p:cNvSpPr/>
          <p:nvPr/>
        </p:nvSpPr>
        <p:spPr>
          <a:xfrm>
            <a:off x="1844640" y="2735280"/>
            <a:ext cx="13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2"/>
          <p:cNvSpPr/>
          <p:nvPr/>
        </p:nvSpPr>
        <p:spPr>
          <a:xfrm>
            <a:off x="1844640" y="5081760"/>
            <a:ext cx="13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3"/>
          <p:cNvSpPr/>
          <p:nvPr/>
        </p:nvSpPr>
        <p:spPr>
          <a:xfrm>
            <a:off x="1844640" y="5661000"/>
            <a:ext cx="13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4"/>
          <p:cNvSpPr/>
          <p:nvPr/>
        </p:nvSpPr>
        <p:spPr>
          <a:xfrm>
            <a:off x="1789200" y="3359160"/>
            <a:ext cx="152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5"/>
          <p:cNvSpPr/>
          <p:nvPr/>
        </p:nvSpPr>
        <p:spPr>
          <a:xfrm>
            <a:off x="1778040" y="4037040"/>
            <a:ext cx="152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6"/>
          <p:cNvSpPr/>
          <p:nvPr/>
        </p:nvSpPr>
        <p:spPr>
          <a:xfrm>
            <a:off x="6634080" y="3025800"/>
            <a:ext cx="6937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7"/>
          <p:cNvSpPr/>
          <p:nvPr/>
        </p:nvSpPr>
        <p:spPr>
          <a:xfrm>
            <a:off x="5815080" y="3457440"/>
            <a:ext cx="8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8"/>
          <p:cNvSpPr/>
          <p:nvPr/>
        </p:nvSpPr>
        <p:spPr>
          <a:xfrm>
            <a:off x="3732120" y="467208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9"/>
          <p:cNvSpPr/>
          <p:nvPr/>
        </p:nvSpPr>
        <p:spPr>
          <a:xfrm>
            <a:off x="6224760" y="5251320"/>
            <a:ext cx="8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0"/>
          <p:cNvSpPr/>
          <p:nvPr/>
        </p:nvSpPr>
        <p:spPr>
          <a:xfrm>
            <a:off x="7869240" y="5830920"/>
            <a:ext cx="8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U4 Section A 2b.mp3" descr="U4 Section A 2b"/>
          <p:cNvPicPr/>
          <p:nvPr/>
        </p:nvPicPr>
        <p:blipFill>
          <a:blip r:embed="rId1"/>
          <a:stretch/>
        </p:blipFill>
        <p:spPr>
          <a:xfrm>
            <a:off x="7540560" y="1438200"/>
            <a:ext cx="6588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56242" fill="hold"/>
                                        <p:tgtEl>
                                          <p:spTgt spid="3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AutoShape 2"/>
          <p:cNvSpPr/>
          <p:nvPr/>
        </p:nvSpPr>
        <p:spPr>
          <a:xfrm>
            <a:off x="2593800" y="264960"/>
            <a:ext cx="6330960" cy="11224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2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Role-play a convers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etween Peter and his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3" descr="u=3694040158,1854063845&amp;fm=21&amp;gp=0"/>
          <p:cNvPicPr/>
          <p:nvPr/>
        </p:nvPicPr>
        <p:blipFill>
          <a:blip r:embed="rId1"/>
          <a:srcRect l="0" t="0" r="0" b="7439"/>
          <a:stretch/>
        </p:blipFill>
        <p:spPr>
          <a:xfrm>
            <a:off x="1727280" y="3402000"/>
            <a:ext cx="4817880" cy="3456000"/>
          </a:xfrm>
          <a:prstGeom prst="rect">
            <a:avLst/>
          </a:prstGeom>
          <a:ln w="0">
            <a:noFill/>
          </a:ln>
        </p:spPr>
      </p:pic>
      <p:sp>
        <p:nvSpPr>
          <p:cNvPr id="397" name="AutoShape 4"/>
          <p:cNvSpPr/>
          <p:nvPr/>
        </p:nvSpPr>
        <p:spPr>
          <a:xfrm>
            <a:off x="6103800" y="1695600"/>
            <a:ext cx="2819520" cy="17064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ccff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84d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What’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matter,Pe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5"/>
          <p:cNvSpPr/>
          <p:nvPr/>
        </p:nvSpPr>
        <p:spPr>
          <a:xfrm>
            <a:off x="235080" y="1695600"/>
            <a:ext cx="4579920" cy="1442880"/>
          </a:xfrm>
          <a:prstGeom prst="wedgeRoundRectCallout">
            <a:avLst>
              <a:gd name="adj1" fmla="val -2180"/>
              <a:gd name="adj2" fmla="val 73250"/>
              <a:gd name="adj3" fmla="val 16667"/>
            </a:avLst>
          </a:prstGeom>
          <a:solidFill>
            <a:srgbClr val="ffff99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 had a fight with my b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riend. What should I do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AutoShape 2"/>
          <p:cNvSpPr/>
          <p:nvPr/>
        </p:nvSpPr>
        <p:spPr>
          <a:xfrm>
            <a:off x="2308320" y="212760"/>
            <a:ext cx="6615000" cy="11746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2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Make conversations using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formation in 2a and 2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3"/>
          <p:cNvSpPr/>
          <p:nvPr/>
        </p:nvSpPr>
        <p:spPr>
          <a:xfrm>
            <a:off x="5064120" y="1569960"/>
            <a:ext cx="3666960" cy="1832040"/>
          </a:xfrm>
          <a:prstGeom prst="wedgeRoundRectCallout">
            <a:avLst>
              <a:gd name="adj1" fmla="val 180"/>
              <a:gd name="adj2" fmla="val 93555"/>
              <a:gd name="adj3" fmla="val 16667"/>
            </a:avLst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Well, you should c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im so that you c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ay you're sorry.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4"/>
          <p:cNvSpPr/>
          <p:nvPr/>
        </p:nvSpPr>
        <p:spPr>
          <a:xfrm>
            <a:off x="380880" y="1965240"/>
            <a:ext cx="2560680" cy="1251000"/>
          </a:xfrm>
          <a:prstGeom prst="cloudCallout">
            <a:avLst>
              <a:gd name="adj1" fmla="val -3870"/>
              <a:gd name="adj2" fmla="val 90750"/>
            </a:avLst>
          </a:prstGeom>
          <a:solidFill>
            <a:srgbClr val="ffffff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5" descr="u=3694040158,1854063845&amp;fm=21&amp;gp=0"/>
          <p:cNvPicPr/>
          <p:nvPr/>
        </p:nvPicPr>
        <p:blipFill>
          <a:blip r:embed="rId1"/>
          <a:srcRect l="0" t="0" r="0" b="7439"/>
          <a:stretch/>
        </p:blipFill>
        <p:spPr>
          <a:xfrm>
            <a:off x="1711440" y="3402000"/>
            <a:ext cx="48196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AutoShape 2"/>
          <p:cNvSpPr/>
          <p:nvPr/>
        </p:nvSpPr>
        <p:spPr>
          <a:xfrm>
            <a:off x="2187720" y="351000"/>
            <a:ext cx="6491160" cy="141732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2d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  <a:ea typeface="Times New Roman"/>
              </a:rPr>
              <a:t>  </a:t>
            </a:r>
            <a:r>
              <a:rPr b="0" lang="en-US" sz="3200" spc="-1" strike="noStrike" u="sng">
                <a:solidFill>
                  <a:srgbClr val="0080ff"/>
                </a:solidFill>
                <a:uFillTx/>
                <a:latin typeface="Arial"/>
                <a:ea typeface="Times New Roman"/>
                <a:hlinkClick r:id="rId1"/>
              </a:rPr>
              <a:t>Role-play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the convers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3"/>
          <p:cNvSpPr/>
          <p:nvPr/>
        </p:nvSpPr>
        <p:spPr>
          <a:xfrm>
            <a:off x="7734240" y="1768320"/>
            <a:ext cx="1125720" cy="1013040"/>
          </a:xfrm>
          <a:custGeom>
            <a:avLst/>
            <a:gdLst>
              <a:gd name="textAreaLeft" fmla="*/ 65520 w 1125720"/>
              <a:gd name="textAreaRight" fmla="*/ 1060200 w 1125720"/>
              <a:gd name="textAreaTop" fmla="*/ 65520 h 1013040"/>
              <a:gd name="textAreaBottom" fmla="*/ 947520 h 1013040"/>
            </a:gdLst>
            <a:ahLst/>
            <a:rect l="textAreaLeft" t="textAreaTop" r="textAreaRight" b="textAreaBottom"/>
            <a:pathLst>
              <a:path w="24002" h="21600">
                <a:moveTo>
                  <a:pt x="0" y="0"/>
                </a:moveTo>
                <a:lnTo>
                  <a:pt x="24002" y="0"/>
                </a:lnTo>
                <a:lnTo>
                  <a:pt x="24002" y="21600"/>
                </a:lnTo>
                <a:lnTo>
                  <a:pt x="0" y="21600"/>
                </a:lnTo>
                <a:close/>
              </a:path>
              <a:path fill="lightenLess" w="24002" h="21600">
                <a:moveTo>
                  <a:pt x="0" y="0"/>
                </a:moveTo>
                <a:lnTo>
                  <a:pt x="24002" y="0"/>
                </a:lnTo>
                <a:lnTo>
                  <a:pt x="22602" y="1400"/>
                </a:lnTo>
                <a:lnTo>
                  <a:pt x="1400" y="1400"/>
                </a:lnTo>
                <a:close/>
              </a:path>
              <a:path fill="darken" w="24002" h="21600">
                <a:moveTo>
                  <a:pt x="24002" y="0"/>
                </a:moveTo>
                <a:lnTo>
                  <a:pt x="24002" y="21600"/>
                </a:lnTo>
                <a:lnTo>
                  <a:pt x="22602" y="20200"/>
                </a:lnTo>
                <a:lnTo>
                  <a:pt x="22602" y="1400"/>
                </a:lnTo>
                <a:close/>
              </a:path>
              <a:path fill="darkenLess" w="24002" h="21600">
                <a:moveTo>
                  <a:pt x="240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2" y="20200"/>
                </a:lnTo>
                <a:close/>
              </a:path>
              <a:path fill="lighten" w="240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2" h="21600">
                <a:moveTo>
                  <a:pt x="4994" y="7301"/>
                </a:moveTo>
                <a:lnTo>
                  <a:pt x="5908" y="7301"/>
                </a:lnTo>
                <a:lnTo>
                  <a:pt x="6291" y="7667"/>
                </a:lnTo>
                <a:lnTo>
                  <a:pt x="15500" y="7667"/>
                </a:lnTo>
                <a:lnTo>
                  <a:pt x="16057" y="8224"/>
                </a:lnTo>
                <a:lnTo>
                  <a:pt x="16057" y="8772"/>
                </a:lnTo>
                <a:lnTo>
                  <a:pt x="17902" y="8772"/>
                </a:lnTo>
                <a:lnTo>
                  <a:pt x="18268" y="8224"/>
                </a:lnTo>
                <a:lnTo>
                  <a:pt x="19007" y="8224"/>
                </a:lnTo>
                <a:lnTo>
                  <a:pt x="19007" y="13376"/>
                </a:lnTo>
                <a:lnTo>
                  <a:pt x="18268" y="13376"/>
                </a:lnTo>
                <a:lnTo>
                  <a:pt x="17902" y="12828"/>
                </a:lnTo>
                <a:lnTo>
                  <a:pt x="16057" y="12828"/>
                </a:lnTo>
                <a:lnTo>
                  <a:pt x="16057" y="14107"/>
                </a:lnTo>
                <a:lnTo>
                  <a:pt x="6474" y="14107"/>
                </a:lnTo>
                <a:lnTo>
                  <a:pt x="6474" y="9877"/>
                </a:lnTo>
                <a:lnTo>
                  <a:pt x="6291" y="9877"/>
                </a:lnTo>
                <a:lnTo>
                  <a:pt x="5908" y="10243"/>
                </a:lnTo>
                <a:lnTo>
                  <a:pt x="4994" y="10243"/>
                </a:lnTo>
                <a:close/>
              </a:path>
            </a:pathLst>
          </a:cu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4"/>
          <p:cNvSpPr/>
          <p:nvPr/>
        </p:nvSpPr>
        <p:spPr>
          <a:xfrm>
            <a:off x="457200" y="1971720"/>
            <a:ext cx="76611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ave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look sad, Kim. What's wro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Kim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ll, I found my sister looking through my things yesterday. She took some of my new magazines and C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av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Hmm... that's not very nice. Did she give them back to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Kim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Yes, but I'm still angry with her. What should I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AutoShape 2"/>
          <p:cNvSpPr/>
          <p:nvPr/>
        </p:nvSpPr>
        <p:spPr>
          <a:xfrm>
            <a:off x="2187720" y="351000"/>
            <a:ext cx="6491160" cy="141732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2d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Role-</a:t>
            </a:r>
            <a:r>
              <a:rPr b="0" lang="en-US" sz="3200" spc="-1" strike="noStrike" u="sng">
                <a:solidFill>
                  <a:srgbClr val="0080ff"/>
                </a:solidFill>
                <a:uFillTx/>
                <a:latin typeface="Arial"/>
                <a:ea typeface="Times New Roman"/>
                <a:hlinkClick r:id="rId1"/>
              </a:rPr>
              <a:t>play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the convers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457200" y="2082960"/>
            <a:ext cx="766116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av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ll, I guess you could tell her to say sorry. But why don't you forget about it so that you can be friends again? Although she's wrong, it's not a big de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Kim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're right. Thanks for your ad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ave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problem. Hope things work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3"/>
          <p:cNvSpPr/>
          <p:nvPr/>
        </p:nvSpPr>
        <p:spPr>
          <a:xfrm>
            <a:off x="349200" y="1249200"/>
            <a:ext cx="8794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1. My parents don’t allow me to hang out with my frien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all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是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动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意为“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允许；准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”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侧重听从，不阻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通常用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allow sb. to do sth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短语中， 意为 “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允许某人做某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”；其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被动形式为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sb be allowed to do sth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意为 “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某人被允许做某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”；还可用于短语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allow doing sth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意为“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允许做某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”；作“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允许进入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”解时其后可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直接接表示方向的副词或介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如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You are no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allowed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smoke he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这里不许吸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They don’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all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smo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他们不允许吸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3"/>
          <p:cNvSpPr/>
          <p:nvPr/>
        </p:nvSpPr>
        <p:spPr>
          <a:xfrm>
            <a:off x="4010040" y="58680"/>
            <a:ext cx="4549680" cy="1190520"/>
          </a:xfrm>
          <a:prstGeom prst="horizontalScroll">
            <a:avLst>
              <a:gd name="adj" fmla="val 12500"/>
            </a:avLst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Language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3"/>
          <p:cNvSpPr/>
          <p:nvPr/>
        </p:nvSpPr>
        <p:spPr>
          <a:xfrm>
            <a:off x="1297080" y="376200"/>
            <a:ext cx="737388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微软雅黑"/>
              </a:rPr>
              <a:t>hang ou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微软雅黑"/>
              </a:rPr>
              <a:t>动词短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，意为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微软雅黑"/>
              </a:rPr>
              <a:t>挂出；闲逛；垂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如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It's very dangerous to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微软雅黑"/>
              </a:rPr>
              <a:t>hang ou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of the window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把身子探出车外是非常危险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We often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微软雅黑"/>
              </a:rPr>
              <a:t>hang out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with our fri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我们经常同朋友一起去闲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My sister often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微软雅黑"/>
              </a:rPr>
              <a:t>h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微软雅黑"/>
              </a:rPr>
              <a:t>ang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in the biggest shopping mall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我姐姐经常在最大的那家百货商场闲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10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4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7" dur="5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2"/>
          <p:cNvSpPr/>
          <p:nvPr/>
        </p:nvSpPr>
        <p:spPr>
          <a:xfrm>
            <a:off x="774720" y="457200"/>
            <a:ext cx="7732800" cy="47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I guess you could tell her to say sor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ues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</a:t>
            </a:r>
            <a:r>
              <a:rPr b="1" lang="zh-CN" sz="3200" spc="-1" strike="noStrike">
                <a:solidFill>
                  <a:srgbClr val="0080ff"/>
                </a:solidFill>
                <a:latin typeface="Times New Roman"/>
                <a:ea typeface="Times New Roman"/>
              </a:rPr>
              <a:t>动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意为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猜测；估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on't really know, I'm just </a:t>
            </a:r>
            <a:r>
              <a:rPr b="1" lang="zh-CN" sz="3200" spc="-1" strike="noStrike">
                <a:solidFill>
                  <a:srgbClr val="0080ff"/>
                </a:solidFill>
                <a:latin typeface="Times New Roman"/>
                <a:ea typeface="Times New Roman"/>
              </a:rPr>
              <a:t>guess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我真的不知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我仅仅是猜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ould only </a:t>
            </a:r>
            <a:r>
              <a:rPr b="1" lang="zh-CN" sz="3200" spc="-1" strike="noStrike">
                <a:solidFill>
                  <a:srgbClr val="0080ff"/>
                </a:solidFill>
                <a:latin typeface="Times New Roman"/>
                <a:ea typeface="Times New Roman"/>
              </a:rPr>
              <a:t>gues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her motiv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我们只能猜测她的动机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6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5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5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500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620640" y="771480"/>
            <a:ext cx="7926480" cy="49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tel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是</a:t>
            </a:r>
            <a:r>
              <a:rPr b="1" lang="zh-CN" sz="3200" spc="-1" strike="noStrike">
                <a:solidFill>
                  <a:srgbClr val="0080ff"/>
                </a:solidFill>
                <a:latin typeface="Arial"/>
                <a:ea typeface="Arial"/>
              </a:rPr>
              <a:t>动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，意为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告诉；吩咐；讲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”， 常用短语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tell sb st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tell sth to s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意为“</a:t>
            </a:r>
            <a:r>
              <a:rPr b="1" lang="zh-CN" sz="3200" spc="-1" strike="noStrike">
                <a:solidFill>
                  <a:srgbClr val="0080ff"/>
                </a:solidFill>
                <a:latin typeface="Arial"/>
                <a:ea typeface="Arial"/>
              </a:rPr>
              <a:t>告诉某人某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”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tell sb to do st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意为“</a:t>
            </a:r>
            <a:r>
              <a:rPr b="1" lang="zh-CN" sz="3200" spc="-1" strike="noStrike">
                <a:solidFill>
                  <a:srgbClr val="0080ff"/>
                </a:solidFill>
                <a:latin typeface="Arial"/>
                <a:ea typeface="Arial"/>
              </a:rPr>
              <a:t>告诉某人去做某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如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He wanted to </a:t>
            </a:r>
            <a:r>
              <a:rPr b="1" lang="zh-CN" sz="3200" spc="-1" strike="noStrike">
                <a:solidFill>
                  <a:srgbClr val="0080ff"/>
                </a:solidFill>
                <a:latin typeface="Arial"/>
                <a:ea typeface="Arial"/>
              </a:rPr>
              <a:t>tel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 the news</a:t>
            </a:r>
            <a:r>
              <a:rPr b="1" lang="zh-CN" sz="3200" spc="-1" strike="noStrike">
                <a:solidFill>
                  <a:srgbClr val="0080ff"/>
                </a:solidFill>
                <a:latin typeface="Arial"/>
                <a:ea typeface="Arial"/>
              </a:rPr>
              <a:t> t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 the world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他要把这件事告诉每一个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I always </a:t>
            </a:r>
            <a:r>
              <a:rPr b="1" lang="zh-CN" sz="3200" spc="-1" strike="noStrike">
                <a:solidFill>
                  <a:srgbClr val="0080ff"/>
                </a:solidFill>
                <a:latin typeface="Arial"/>
                <a:ea typeface="Arial"/>
              </a:rPr>
              <a:t>tell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my daughter a story before she goes to slee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女儿睡觉之前，我总讲故事给她听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9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655560" y="728640"/>
            <a:ext cx="8078760" cy="43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3. Althouth she’s wrong,it’s not a big de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although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相当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though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even thoug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，意为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尽管，虽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”，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Arial"/>
              </a:rPr>
              <a:t>连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，用来引导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Arial"/>
              </a:rPr>
              <a:t>让步状语从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如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Arial"/>
              </a:rPr>
              <a:t>Althoug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 he is poor,he is still very happy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= He is poor, but he is still very happy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。虽然很穷，但他还是很幸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1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1352520" y="1457280"/>
            <a:ext cx="7467480" cy="38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Do you have any problems in your daily lif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How do you solve them? Give some advi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矩形 6" descr=""/>
          <p:cNvPicPr/>
          <p:nvPr/>
        </p:nvPicPr>
        <p:blipFill>
          <a:blip r:embed="rId1"/>
          <a:stretch/>
        </p:blipFill>
        <p:spPr>
          <a:xfrm>
            <a:off x="3133800" y="272880"/>
            <a:ext cx="3381480" cy="858960"/>
          </a:xfrm>
          <a:prstGeom prst="rect">
            <a:avLst/>
          </a:prstGeom>
          <a:ln w="0">
            <a:noFill/>
          </a:ln>
        </p:spPr>
      </p:pic>
      <p:sp>
        <p:nvSpPr>
          <p:cNvPr id="415" name="TextBox 5"/>
          <p:cNvSpPr/>
          <p:nvPr/>
        </p:nvSpPr>
        <p:spPr>
          <a:xfrm>
            <a:off x="515880" y="1251000"/>
            <a:ext cx="8317080" cy="51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t’s said that smoking won’t be _________ in indoor public places or workplaces in China soon.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A. attacked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B. admired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. attracted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D. allowed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______ the girl is only mine, she takes care of her brother and cooks meals every 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A. If      B. Because      C. Although        D.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1"/>
          <p:cNvSpPr/>
          <p:nvPr/>
        </p:nvSpPr>
        <p:spPr>
          <a:xfrm>
            <a:off x="1667880" y="1943280"/>
            <a:ext cx="491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7"/>
          <p:cNvSpPr/>
          <p:nvPr/>
        </p:nvSpPr>
        <p:spPr>
          <a:xfrm>
            <a:off x="1173240" y="4538520"/>
            <a:ext cx="491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u=3983912369,2963134663&amp;fm=23&amp;gp=0"/>
          <p:cNvPicPr/>
          <p:nvPr/>
        </p:nvPicPr>
        <p:blipFill>
          <a:blip r:embed="rId1"/>
          <a:stretch/>
        </p:blipFill>
        <p:spPr>
          <a:xfrm>
            <a:off x="407880" y="411120"/>
            <a:ext cx="3834000" cy="33228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3"/>
          <p:cNvSpPr/>
          <p:nvPr/>
        </p:nvSpPr>
        <p:spPr>
          <a:xfrm>
            <a:off x="4522680" y="1000080"/>
            <a:ext cx="36799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have to study too mu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174600" y="3971880"/>
            <a:ext cx="385776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oo many after-school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5" descr="u=627697106,4220197216&amp;fm=21&amp;gp=0"/>
          <p:cNvPicPr/>
          <p:nvPr/>
        </p:nvPicPr>
        <p:blipFill>
          <a:blip r:embed="rId2"/>
          <a:srcRect l="0" t="0" r="0" b="9947"/>
          <a:stretch/>
        </p:blipFill>
        <p:spPr>
          <a:xfrm>
            <a:off x="4241880" y="3422520"/>
            <a:ext cx="4762440" cy="32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5146560" y="1000080"/>
            <a:ext cx="36799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hang out with my fri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1289160" y="4029120"/>
            <a:ext cx="38574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ight with my best fri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4" descr="u=4212864531,2154147752&amp;fm=23&amp;gp=0"/>
          <p:cNvPicPr/>
          <p:nvPr/>
        </p:nvPicPr>
        <p:blipFill>
          <a:blip r:embed="rId1"/>
          <a:stretch/>
        </p:blipFill>
        <p:spPr>
          <a:xfrm>
            <a:off x="174600" y="603360"/>
            <a:ext cx="4971960" cy="36115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5" descr="u=3286420276,1403688711&amp;fm=23&amp;gp=0"/>
          <p:cNvPicPr/>
          <p:nvPr/>
        </p:nvPicPr>
        <p:blipFill>
          <a:blip r:embed="rId2"/>
          <a:stretch/>
        </p:blipFill>
        <p:spPr>
          <a:xfrm>
            <a:off x="5327640" y="3000240"/>
            <a:ext cx="373536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AutoShape 2"/>
          <p:cNvSpPr/>
          <p:nvPr/>
        </p:nvSpPr>
        <p:spPr>
          <a:xfrm>
            <a:off x="1501920" y="260280"/>
            <a:ext cx="7441920" cy="17258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1a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Look at these problems. Do you thin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they are serious or not? Writ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in the appropriate box.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3"/>
          <p:cNvSpPr/>
          <p:nvPr/>
        </p:nvSpPr>
        <p:spPr>
          <a:xfrm>
            <a:off x="7763040" y="2333520"/>
            <a:ext cx="1180800" cy="1166760"/>
          </a:xfrm>
          <a:custGeom>
            <a:avLst/>
            <a:gdLst>
              <a:gd name="textAreaLeft" fmla="*/ 75600 w 1180800"/>
              <a:gd name="textAreaRight" fmla="*/ 1105200 w 1180800"/>
              <a:gd name="textAreaTop" fmla="*/ 75600 h 1166760"/>
              <a:gd name="textAreaBottom" fmla="*/ 1091160 h 1166760"/>
            </a:gdLst>
            <a:ahLst/>
            <a:rect l="textAreaLeft" t="textAreaTop" r="textAreaRight" b="textAreaBottom"/>
            <a:pathLst>
              <a:path w="21860" h="21600">
                <a:moveTo>
                  <a:pt x="0" y="0"/>
                </a:moveTo>
                <a:lnTo>
                  <a:pt x="21860" y="0"/>
                </a:lnTo>
                <a:lnTo>
                  <a:pt x="21860" y="21600"/>
                </a:lnTo>
                <a:lnTo>
                  <a:pt x="0" y="21600"/>
                </a:lnTo>
                <a:close/>
              </a:path>
              <a:path fill="lightenLess" w="21860" h="21600">
                <a:moveTo>
                  <a:pt x="0" y="0"/>
                </a:moveTo>
                <a:lnTo>
                  <a:pt x="21860" y="0"/>
                </a:lnTo>
                <a:lnTo>
                  <a:pt x="20460" y="1400"/>
                </a:lnTo>
                <a:lnTo>
                  <a:pt x="1400" y="1400"/>
                </a:lnTo>
                <a:close/>
              </a:path>
              <a:path fill="darken" w="21860" h="21600">
                <a:moveTo>
                  <a:pt x="21860" y="0"/>
                </a:moveTo>
                <a:lnTo>
                  <a:pt x="21860" y="21600"/>
                </a:lnTo>
                <a:lnTo>
                  <a:pt x="20460" y="20200"/>
                </a:lnTo>
                <a:lnTo>
                  <a:pt x="20460" y="1400"/>
                </a:lnTo>
                <a:close/>
              </a:path>
              <a:path fill="darkenLess" w="21860" h="21600">
                <a:moveTo>
                  <a:pt x="218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60" y="20200"/>
                </a:lnTo>
                <a:close/>
              </a:path>
              <a:path fill="lighten" w="218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60" h="21600">
                <a:moveTo>
                  <a:pt x="3923" y="7301"/>
                </a:moveTo>
                <a:lnTo>
                  <a:pt x="4837" y="7301"/>
                </a:lnTo>
                <a:lnTo>
                  <a:pt x="5220" y="7667"/>
                </a:lnTo>
                <a:lnTo>
                  <a:pt x="14429" y="7667"/>
                </a:lnTo>
                <a:lnTo>
                  <a:pt x="14986" y="8224"/>
                </a:lnTo>
                <a:lnTo>
                  <a:pt x="14986" y="8772"/>
                </a:lnTo>
                <a:lnTo>
                  <a:pt x="16831" y="8772"/>
                </a:lnTo>
                <a:lnTo>
                  <a:pt x="17197" y="8224"/>
                </a:lnTo>
                <a:lnTo>
                  <a:pt x="17936" y="8224"/>
                </a:lnTo>
                <a:lnTo>
                  <a:pt x="17936" y="13376"/>
                </a:lnTo>
                <a:lnTo>
                  <a:pt x="17197" y="13376"/>
                </a:lnTo>
                <a:lnTo>
                  <a:pt x="16831" y="12828"/>
                </a:lnTo>
                <a:lnTo>
                  <a:pt x="14986" y="12828"/>
                </a:lnTo>
                <a:lnTo>
                  <a:pt x="14986" y="14107"/>
                </a:lnTo>
                <a:lnTo>
                  <a:pt x="5403" y="14107"/>
                </a:lnTo>
                <a:lnTo>
                  <a:pt x="5403" y="9877"/>
                </a:lnTo>
                <a:lnTo>
                  <a:pt x="5220" y="9877"/>
                </a:lnTo>
                <a:lnTo>
                  <a:pt x="4837" y="10243"/>
                </a:lnTo>
                <a:lnTo>
                  <a:pt x="3923" y="1024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615960" y="2333520"/>
            <a:ext cx="714708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I have to study too much so I don't get enough slee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I have too much homework so I don't have any free time to do things I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My parents don't allow me to hang out with my fri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I have too many after-school cla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I got into a fight with my best fri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AutoShape 2"/>
          <p:cNvSpPr/>
          <p:nvPr/>
        </p:nvSpPr>
        <p:spPr>
          <a:xfrm>
            <a:off x="1192320" y="0"/>
            <a:ext cx="1261800" cy="1165320"/>
          </a:xfrm>
          <a:custGeom>
            <a:avLst/>
            <a:gdLst>
              <a:gd name="textAreaLeft" fmla="*/ 288000 w 1261800"/>
              <a:gd name="textAreaRight" fmla="*/ 973800 w 1261800"/>
              <a:gd name="textAreaTop" fmla="*/ 266040 h 1165320"/>
              <a:gd name="textAreaBottom" fmla="*/ 899280 h 1165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1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457200" y="1165320"/>
          <a:ext cx="8229600" cy="5392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7364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iou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eriou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619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354" name="Text Box 20"/>
          <p:cNvSpPr/>
          <p:nvPr/>
        </p:nvSpPr>
        <p:spPr>
          <a:xfrm>
            <a:off x="457200" y="2638440"/>
            <a:ext cx="3843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1. I have to study too much so I don’t get enough slee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1"/>
          <p:cNvSpPr/>
          <p:nvPr/>
        </p:nvSpPr>
        <p:spPr>
          <a:xfrm>
            <a:off x="4638600" y="2638440"/>
            <a:ext cx="40482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2. I have too much homework so I don’t have any free time to do things I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2"/>
          <p:cNvSpPr/>
          <p:nvPr/>
        </p:nvSpPr>
        <p:spPr>
          <a:xfrm>
            <a:off x="457200" y="4189320"/>
            <a:ext cx="3843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4. I have too many after-school cla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3"/>
          <p:cNvSpPr/>
          <p:nvPr/>
        </p:nvSpPr>
        <p:spPr>
          <a:xfrm>
            <a:off x="4638600" y="4662360"/>
            <a:ext cx="3843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3. My parents don’t allow me to hang out with my fri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4"/>
          <p:cNvSpPr/>
          <p:nvPr/>
        </p:nvSpPr>
        <p:spPr>
          <a:xfrm>
            <a:off x="457200" y="5446800"/>
            <a:ext cx="3843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5. I got into a fight with my best fri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"/>
          <p:cNvGraphicFramePr/>
          <p:nvPr/>
        </p:nvGraphicFramePr>
        <p:xfrm>
          <a:off x="457200" y="1413000"/>
          <a:ext cx="8229600" cy="5451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3232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iou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eriou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619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360" name="Text Box 19"/>
          <p:cNvSpPr/>
          <p:nvPr/>
        </p:nvSpPr>
        <p:spPr>
          <a:xfrm>
            <a:off x="457200" y="2638440"/>
            <a:ext cx="3843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1. I have to study too much so I don’t get enough slee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0"/>
          <p:cNvSpPr/>
          <p:nvPr/>
        </p:nvSpPr>
        <p:spPr>
          <a:xfrm>
            <a:off x="4638600" y="2638440"/>
            <a:ext cx="40482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2. I have too much homework so I don’t have any free time to do things I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1"/>
          <p:cNvSpPr/>
          <p:nvPr/>
        </p:nvSpPr>
        <p:spPr>
          <a:xfrm>
            <a:off x="457200" y="4189320"/>
            <a:ext cx="3843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4. I have too many after-school cla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4638600" y="4662360"/>
            <a:ext cx="3843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3. My parents don’t allow me to hang out with my fri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457200" y="5446800"/>
            <a:ext cx="3843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5. I got into a fight with my best fri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24"/>
          <p:cNvSpPr/>
          <p:nvPr/>
        </p:nvSpPr>
        <p:spPr>
          <a:xfrm>
            <a:off x="1227240" y="201600"/>
            <a:ext cx="7254720" cy="11890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1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Listen and circle th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hear in 1a.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25"/>
          <p:cNvSpPr/>
          <p:nvPr/>
        </p:nvSpPr>
        <p:spPr>
          <a:xfrm>
            <a:off x="293760" y="4264200"/>
            <a:ext cx="581040" cy="583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26"/>
          <p:cNvSpPr/>
          <p:nvPr/>
        </p:nvSpPr>
        <p:spPr>
          <a:xfrm>
            <a:off x="457200" y="2638440"/>
            <a:ext cx="581040" cy="582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U4 Section A 1b.mp3" descr="U4 Section A 1b"/>
          <p:cNvPicPr/>
          <p:nvPr/>
        </p:nvPicPr>
        <p:blipFill>
          <a:blip r:embed="rId1"/>
          <a:stretch/>
        </p:blipFill>
        <p:spPr>
          <a:xfrm>
            <a:off x="7883640" y="797040"/>
            <a:ext cx="80316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56556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AutoShape 2"/>
          <p:cNvSpPr/>
          <p:nvPr/>
        </p:nvSpPr>
        <p:spPr>
          <a:xfrm>
            <a:off x="1413000" y="228600"/>
            <a:ext cx="7534080" cy="12477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Look at the problems you hear in 1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make convers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3" descr="u=2417153747,3223574158&amp;fm=23&amp;gp=0"/>
          <p:cNvPicPr/>
          <p:nvPr/>
        </p:nvPicPr>
        <p:blipFill>
          <a:blip r:embed="rId1"/>
          <a:srcRect l="0" t="12031" r="0" b="12875"/>
          <a:stretch/>
        </p:blipFill>
        <p:spPr>
          <a:xfrm>
            <a:off x="2496960" y="3263760"/>
            <a:ext cx="4683240" cy="3517920"/>
          </a:xfrm>
          <a:prstGeom prst="rect">
            <a:avLst/>
          </a:prstGeom>
          <a:ln w="0">
            <a:noFill/>
          </a:ln>
        </p:spPr>
      </p:pic>
      <p:sp>
        <p:nvSpPr>
          <p:cNvPr id="371" name="AutoShape 4"/>
          <p:cNvSpPr/>
          <p:nvPr/>
        </p:nvSpPr>
        <p:spPr>
          <a:xfrm>
            <a:off x="841320" y="1611360"/>
            <a:ext cx="3311640" cy="1417680"/>
          </a:xfrm>
          <a:prstGeom prst="wedgeEllipseCallout">
            <a:avLst>
              <a:gd name="adj1" fmla="val 33912"/>
              <a:gd name="adj2" fmla="val 71046"/>
            </a:avLst>
          </a:prstGeom>
          <a:solidFill>
            <a:srgbClr val="ffff99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at's wro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4718160" y="1611360"/>
            <a:ext cx="4228920" cy="1887480"/>
          </a:xfrm>
          <a:prstGeom prst="wedgeRoundRectCallout">
            <a:avLst>
              <a:gd name="adj1" fmla="val 1638"/>
              <a:gd name="adj2" fmla="val 92967"/>
              <a:gd name="adj3" fmla="val 16667"/>
            </a:avLst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'm really tired be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 studied until mid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ast night.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6"/>
          <p:cNvSpPr/>
          <p:nvPr/>
        </p:nvSpPr>
        <p:spPr>
          <a:xfrm>
            <a:off x="176040" y="3762360"/>
            <a:ext cx="2320920" cy="2332080"/>
          </a:xfrm>
          <a:prstGeom prst="wedgeRoundRectCallout">
            <a:avLst>
              <a:gd name="adj1" fmla="val 75828"/>
              <a:gd name="adj2" fmla="val -3486"/>
              <a:gd name="adj3" fmla="val 16667"/>
            </a:avLst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don'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go to sl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rlier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ening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AutoShape 3"/>
          <p:cNvSpPr/>
          <p:nvPr/>
        </p:nvSpPr>
        <p:spPr>
          <a:xfrm>
            <a:off x="617400" y="343080"/>
            <a:ext cx="8526600" cy="12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5e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2a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isten. Peter's friend is giving him advi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ll in the blanks with could or shou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746280"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Advic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779640">
                <a:tc>
                  <a:txBody>
                    <a:bodyPr lIns="90000" rIns="90000" tIns="47160" bIns="47160" anchor="t">
                      <a:noAutofit/>
                    </a:bodyPr>
                    <a:p>
                      <a:pPr marL="495360" indent="-495360">
                        <a:lnSpc>
                          <a:spcPct val="120000"/>
                        </a:lnSpc>
                        <a:spcBef>
                          <a:spcPts val="700"/>
                        </a:spcBef>
                        <a:buClr>
                          <a:srgbClr val="4584d3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You _______ write him a letter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20000"/>
                        </a:lnSpc>
                        <a:spcBef>
                          <a:spcPts val="700"/>
                        </a:spcBef>
                        <a:buClr>
                          <a:srgbClr val="4584d3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You _______ call him up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20000"/>
                        </a:lnSpc>
                        <a:spcBef>
                          <a:spcPts val="700"/>
                        </a:spcBef>
                        <a:buClr>
                          <a:srgbClr val="4584d3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You _______ talk to him so that you can say you’re sorr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20000"/>
                        </a:lnSpc>
                        <a:spcBef>
                          <a:spcPts val="700"/>
                        </a:spcBef>
                        <a:buClr>
                          <a:srgbClr val="4584d3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You _______go to his hous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20000"/>
                        </a:lnSpc>
                        <a:spcBef>
                          <a:spcPts val="700"/>
                        </a:spcBef>
                        <a:buClr>
                          <a:srgbClr val="4584d3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You _______take him to the ball gam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376" name="Text Box 12"/>
          <p:cNvSpPr/>
          <p:nvPr/>
        </p:nvSpPr>
        <p:spPr>
          <a:xfrm>
            <a:off x="1844640" y="2346480"/>
            <a:ext cx="13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3"/>
          <p:cNvSpPr/>
          <p:nvPr/>
        </p:nvSpPr>
        <p:spPr>
          <a:xfrm>
            <a:off x="1778040" y="3554280"/>
            <a:ext cx="152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4"/>
          <p:cNvSpPr/>
          <p:nvPr/>
        </p:nvSpPr>
        <p:spPr>
          <a:xfrm>
            <a:off x="1766880" y="2925720"/>
            <a:ext cx="152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5"/>
          <p:cNvSpPr/>
          <p:nvPr/>
        </p:nvSpPr>
        <p:spPr>
          <a:xfrm>
            <a:off x="1844640" y="4638600"/>
            <a:ext cx="13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6"/>
          <p:cNvSpPr/>
          <p:nvPr/>
        </p:nvSpPr>
        <p:spPr>
          <a:xfrm>
            <a:off x="1844640" y="5218200"/>
            <a:ext cx="13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U4 Section A 2a.mp3" descr="U4 Section A 2a"/>
          <p:cNvPicPr/>
          <p:nvPr/>
        </p:nvPicPr>
        <p:blipFill>
          <a:blip r:embed="rId1"/>
          <a:stretch/>
        </p:blipFill>
        <p:spPr>
          <a:xfrm>
            <a:off x="7429680" y="148608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185" nodeType="clickEffect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53787" fill="hold"/>
                                        <p:tgtEl>
                                          <p:spTgt spid="3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daidai</dc:creator>
  <dc:description/>
  <cp:keywords/>
  <dc:language>en-US</dc:language>
  <cp:lastModifiedBy>will</cp:lastModifiedBy>
  <dcterms:modified xsi:type="dcterms:W3CDTF">2016-03-25T02:30:56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64</vt:lpwstr>
  </property>
</Properties>
</file>